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BD06-D063-44C5-AC0F-167FE594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5E0E-B9A8-4F7C-B45F-A45A2A05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E2A0-34E6-48FD-AA56-8839A8BF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BF63-C5E5-474B-AD82-B660B23C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3B42-9603-4322-BB6A-B46201F8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2919-FF0B-484D-8189-79872FCD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37A4-050D-430F-B010-2320A3BA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A9B8-0D32-43C3-B727-D870A2AE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D68D-52E7-4515-94A8-75092DAC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9EB3-B337-43F6-8161-8645E143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83B9-9D24-407B-BB22-BFEBA4AE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0EEF-D6EF-4CB3-B6A3-8192080B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B470-D237-4AF2-A723-9A8176A8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B995-28CE-47E3-BB90-66954337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0C74-25C1-4638-80E2-2CA8323C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D433-B7B1-477D-A5FB-62D8E2C1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C3A6-1480-4147-96F8-C682356C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DA07-4AFC-4DC6-AA80-7576B2B3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F5B2-A295-44A7-82D6-33B6E01C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4FDB-7750-43C3-9E13-CDE25B62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D6FB-2E97-4C5E-BEC3-A5E9E890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7A57-C208-47C6-B9BC-162E9641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8565-4F8E-4370-A4A8-4BA60F2A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7D32-C69E-4A8A-9F34-A20037D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17A0-0E1D-40B4-8B23-9868B249ABD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2283-423B-4881-BFAE-42FC445445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cc"/>
                </a:solidFill>
                <a:latin typeface="Tahoma"/>
              </a:rPr>
              <a:t>Police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00000" y="2060640"/>
            <a:ext cx="72136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Hello I’m going to tell you all about polic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3602160" cy="2720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164360" y="4005360"/>
            <a:ext cx="1488960" cy="198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1422360" cy="2060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76640" y="2751120"/>
            <a:ext cx="223560" cy="1440"/>
          </a:xfrm>
          <a:custGeom>
            <a:avLst/>
            <a:gdLst/>
            <a:ahLst/>
            <a:rect l="l" t="t" r="r" b="b"/>
            <a:pathLst>
              <a:path w="621" h="1">
                <a:moveTo>
                  <a:pt x="6325" y="7640"/>
                </a:moveTo>
                <a:cubicBezTo>
                  <a:pt x="6532" y="7640"/>
                  <a:pt x="6738" y="7640"/>
                  <a:pt x="6945" y="764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cc"/>
                </a:solidFill>
                <a:latin typeface="Tahoma"/>
              </a:rPr>
              <a:t>Police tools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Police use all different types of tools, handcuffs, batons, pepper spray,S.R.B.A,radio and many other types of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216160" cy="189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17017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635280" y="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ffffcc"/>
                </a:solidFill>
                <a:latin typeface="Tahoma"/>
              </a:rPr>
              <a:t>Different police types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89520" y="2060640"/>
            <a:ext cx="42544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re are many different types of police, dog handlers school educators, traffic officers and many other 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20910600">
            <a:off x="528480" y="3948120"/>
            <a:ext cx="240696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48360" y="5157720"/>
            <a:ext cx="2786040" cy="1560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453600">
            <a:off x="1187280" y="126828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ffffcc"/>
                </a:solidFill>
                <a:latin typeface="Tahoma"/>
              </a:rPr>
              <a:t>111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111 is when there is an emergency so if there has been a robber in your house call 111 right away! But don’t call them when your being si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21185400">
            <a:off x="900000" y="404640"/>
            <a:ext cx="1630440" cy="2303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513000">
            <a:off x="6011640" y="620640"/>
            <a:ext cx="200016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4818240"/>
            <a:ext cx="2520720" cy="17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olice dog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Police dogs are mainly German Shepherds dog handlers look after them at their hou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rot="21420000">
            <a:off x="5579640" y="3357360"/>
            <a:ext cx="2697120" cy="269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21103200">
            <a:off x="705960" y="3747600"/>
            <a:ext cx="374328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olice car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ifferent places have many different types of police c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Lamborghini Gallarado is the fastest police car around the world it was made in Ita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re are New Zealand police cars too that have really loud sire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5484960"/>
            <a:ext cx="2399040" cy="1373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rot="567600">
            <a:off x="6300720" y="5157720"/>
            <a:ext cx="1963800" cy="14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Blow tes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hen police are patrolling the streets when someone is speeding they stop the person and do a blow test on them to see if they have been drinking or have taken dru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444600">
            <a:off x="6084360" y="477720"/>
            <a:ext cx="2627640" cy="2627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 rot="21158400">
            <a:off x="5724000" y="3645000"/>
            <a:ext cx="2473560" cy="26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9128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ffcc"/>
                </a:solidFill>
                <a:latin typeface="Tahoma"/>
              </a:rPr>
              <a:t>Thank you for watching By Mya 5e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21318600">
            <a:off x="539280" y="4292640"/>
            <a:ext cx="1976400" cy="2174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132000" y="3357720"/>
            <a:ext cx="2054520" cy="1369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 rot="327000">
            <a:off x="5651640" y="4076280"/>
            <a:ext cx="3090600" cy="220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2:17:24Z</dcterms:created>
  <dc:creator>5e04</dc:creator>
  <dc:description/>
  <dc:language>en-US</dc:language>
  <cp:lastModifiedBy>5e04</cp:lastModifiedBy>
  <dcterms:modified xsi:type="dcterms:W3CDTF">2011-09-05T02:21:31Z</dcterms:modified>
  <cp:revision>7</cp:revision>
  <dc:subject/>
  <dc:title>Police</dc:title>
</cp:coreProperties>
</file>